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7D2E-F31E-48C5-B5B6-DC05D2F8E2F2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4242-49BD-423B-A432-8BBF6A7617F5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8A2E-440D-4AD6-9705-968BD26939B2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CA22-7515-4D63-BD53-DB9A4F5EEF85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5C34-6432-4AC5-B7B5-1ED9D1D920A5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8EBF-6556-444C-8A40-E2BF4DB67C4C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128-A353-48D2-B2D6-ABD8886D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528-C7E6-487E-8564-9E9912A2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D1DF-2844-4D82-808E-934DDAE9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DA2C-8FB5-4CCC-B14C-B1B270F9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ACC2-586F-4207-92E1-7C599757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1149-67A4-45F2-B0F9-34E7A5B9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3F8F-848C-4FA0-82B7-A0B4FBD0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6228-06EC-4A62-BDE8-CA127858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01ED-D9DF-48C1-B3F4-6C66C263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AB14-4DD8-4F35-80EF-02822BDF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457A-657D-4EE4-B40E-5F5AACEC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C41-B543-4E37-92C3-28E504E2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D7B9-84BA-4811-A961-423D0C79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A117-B9AE-4644-B6B2-F3ED3AB9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6474-CE71-4859-B5D2-6819E6E7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BEEE-3DE0-4D58-91BC-A53A0541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F1E3-A0C1-44E9-9C7A-3DA847CF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D6E53-1BC6-463F-A34A-4A804FF0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FCF4F-6249-45BA-8B73-129CA74D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A70D3-BA15-42AA-9075-DA5CC76D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2C3C6-3349-4D87-A45A-A1A404BA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A951D-AFEF-49D8-ADE2-9880DB8B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EC9C-0153-43AA-B255-EA1B6ECB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9FBED-5F0E-457E-B759-1964FA31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D2E7A-EA5C-43DC-8ED1-36E5E33E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969F8-2E59-4A7D-A744-86D508E6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0C77-563D-4870-BB11-6145CD76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149A5-1516-4CC8-B665-9698B9E6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2C98F-2A31-476B-AA91-4AA1BEBA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A3026-175D-4C3B-90CD-8375B5CD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9CFD1-7C5D-4EBB-8013-2956AEA4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42252-83D2-433F-8D16-7BB372CF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E976E-22F6-44CF-92B4-0EA677CB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26CB-321B-486B-B22B-EFDFC7AB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CE5FA-9DEB-491F-B81F-426A163B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930B6-91C5-4639-9D3F-78D4170F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E69EA-58D6-41EE-8F26-D354EA56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DF6DC-71BC-40CA-8D10-F94512FA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56A07-0DFA-4F8B-9381-85CBB774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B5696-39CB-4B24-BCF2-4CE21046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1D050-B77E-4054-BE3D-2914C497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D754B-0737-4C91-AC91-F0B7D4F9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A69C9-34E2-453E-A9B1-3514C510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097A5-D6C6-4CE9-96F1-4BEDEFE2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72E-0BC3-44E2-9CB8-E551148B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51DF1-1DD0-4C94-BF29-4B59D29F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AC5D5-75B8-4AA0-B51E-CBFECC84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A4AB4-8EA8-49EA-80B7-861363B2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A0757-D08A-49AC-AE90-51327483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06FD3-CFB1-41F1-8C61-05E830ED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8C71F-C445-4251-8C59-ABD6F211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6C721-4447-451E-B24D-4831894A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B3067-6BEA-4FFF-BA70-DC9C4E97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2CF18-C216-4401-B627-0705E5B1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AC1A7-2288-46BB-8735-58EE0DA4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05E-8F78-43DE-B8C9-1105F506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20778-D503-4826-8950-BDF63296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CB100-55AD-48E6-BDFD-11DD11F9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E5B6A-9AF4-4B58-A3CC-F2ED7982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115E3-6342-450A-81E5-00CB6EA9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6A8F6-ADF6-40C5-ABB4-846B3C87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7E8D3-3333-4D68-BF74-C1AF3C4A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83C3B-9646-45CA-AC64-3A4EF0A2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F89D2-8CED-4855-BBF6-248D3F91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E4185-E4CF-415F-83D5-DD72FF76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3754A-DA4F-4CFD-AE26-7FDEE001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535-5428-4F29-A1B9-1BBF1EFB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DDBB1-AC85-44F1-AB86-21982900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7E926-4B08-4EC4-9C92-17BB9338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50416-8B29-4A25-9DF1-2E6F0A8E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BF688-DCFB-4737-B785-16755B53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D52B1-96CB-42A9-BCCC-E7AB92E5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E632C-65EF-492E-9289-38EE003E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8F2C1-DB0F-4349-A5B5-218FCD4A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6F1E0-BBE9-4C05-A983-8C91C28C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ED1EB-2B0D-4C01-A79D-748D51BA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0C63B-FBFD-4717-833D-CAE7AD15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CC7-D0F6-4F6E-A410-9A043978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A1BC2-22D1-4675-9D88-0077AEF5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2431D-63E0-4D98-8BE3-D8E26E86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24AB9-0524-448B-9473-0B54C78B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B3BAD-25BC-43A4-A957-D9F1AD0F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BC383-912C-46A0-88BC-974D1E8C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146A7-E088-4FB4-8D8E-D9C2120B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C2AA9-04EC-43ED-AC66-F7F32E97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8C6EC-C49C-49BA-A962-9D83EAC4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97B7C-0D5C-4659-9A56-072F0012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F6382-99D8-4001-9E73-B2800A5E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89A6-FC80-4113-9B68-9DAE9A7F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B4259-5B7D-4294-928D-06EAA81D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2D96C-7C0B-499D-BC19-C6765136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79809-6007-46C0-9027-53D82DC3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A4AC2-2D74-450B-B589-987F1312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A6E3C-1A2C-4A14-B3FE-BB66C2FA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4682C-6112-4D1B-87DF-1A0CAC24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AE0BC-C84C-4157-A4AF-7865663B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uolivapaa piirt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uolivapaa piirt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Suorakulmainen kolmi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Suorakulmainen kolmi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uora yhdysviiv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1345-5D7F-477A-9606-D2893E302FDC}" type="slidenum"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uorakulmainen kolmi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Ryhmä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Puolivapaa piirto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Puolivapaa piirto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Puolivapaa piirto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Puolivapaa piirto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uora yhdysviiva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2AE2-9362-446F-8ADE-8F8BD00B53AC}" type="slidenum">
              <a:rPr b="0" lang="fi-FI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uolivapaa piirt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uolivapaa piirt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Suorakulmainen kolmi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Suorakulmainen kolmi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uora yhdysviiv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Lovettu nuolenkärki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ovettu nuolenkärki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8BE5-B747-476C-A837-0AD0A327C6A0}" type="slidenum"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uolivapaa piirt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uolivapaa piirt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Suorakulmainen kolmi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Suorakulmainen kolmi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uora yhdysviiv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94A0-BB08-4DD9-BF54-F7D86F0DB536}" type="slidenum"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9802-FAFC-497A-A236-D6C87D622F33}" type="slidenum"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uolivapaa piirt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uolivapaa piirt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Suorakulmainen kolmi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Suorakulmainen kolmi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uora yhdysviiv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BB32-B064-4A79-863C-5C31C5808CD9}" type="slidenum"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C26C-07A7-421D-87A6-6B5D6F0CF75B}" type="slidenum">
              <a:rPr b="0" lang="fi-FI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uolivapaa piirto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uolivapaa piirto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Suorakulmainen kolmio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Suorakulmainen kolmio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uora yhdysviiv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Lovettu nuolenkärki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ovettu nuolenkärki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EF1F-067A-4988-9661-6F269C3448D8}" type="slidenum">
              <a:rPr b="0" lang="fi-FI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Otsikko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2700" spc="-1" strike="noStrike">
              <a:solidFill>
                <a:srgbClr val="6666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Lucida Sans Unicode"/>
              </a:rPr>
              <a:t>Kansantaudeilla tarkoitetaan sellaisia sairauksia, jotka ovat koko väestön terveyden, kansanterveyden, kannalta merkittäviä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Lucida Sans Unicode"/>
              </a:rPr>
              <a:t>Ne kuluttavat yleensä paljon terveydenhuollon voimavaroja ja aiheuttavat työkyvyttömyyttä, joten niillä on suuri taloudellinen merkity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Lucida Sans Unicode"/>
              </a:rPr>
              <a:t>Kansantauteihin ovat syynä muun muassa elämäntapa, sisäsiittoisuus, geeniperimä ja saastee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4100" spc="-1" strike="noStrike">
              <a:solidFill>
                <a:srgbClr val="6666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Verenpaineella tarkoitetaan valtimoissa olevaa painett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Verenpaine pitää veren liikkeessä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Pysyvästi kohonnut verenpaine on maamme yleisin terveysrisk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Normaali yläpaine alle 130 ja alipaine alle 85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Verenpaine on koholla, kun yläarvo on 140 tai ala-arvo yli 90 tai näitä korkeampi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Kohonnut verenpaine vahingoittaa valtimoita ja aiheuttaa aivohalvauksia ja sydäninfarkteja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Verenpainetta voi jokainen alentaa vähentämällä suolaa ja liikkumalla riittävästi, tupakoitsija lopettamalla ja ylipainoinen laihduttamalla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Jos omat keinot eivät laske verenpainetta riittävästi, tarvitaan verenpainelääkkeitä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Otsikko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Eri puolilla kehoamme solut lisääntyvät jatkuvas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Joskus solut jakaantuvat  hallitsemattomasti. Jos valkosolut eivät onnistu lopettamaan jakautumista, niistä kasvaa solukasaumia. Näin saa alkunsa kasvai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Hyvänlaatuinen kasvain pysähtyy kasvussaan, kun taas pahanlaatuinen kasvain ,eli syöpä, jatkaa kasvuaan ja tunkeutuu eri kudoksii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Syövän yleisin aiheuttaja on tupakka. Myös passiivinen tupakointi lisää syövän riskiä huomattavas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Myös ruokavalio ja elämäntavat voivat edesauttaa syövän syntymistä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Otsikko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-3.33333E-006 C -0.00764 0.01366 -0.01007 0.02986 -0.01667 0.04445 C -0.02049 0.06389 -0.03316 0.07755 -0.04167 0.09352 C -0.04531 0.10023 -0.04687 0.1088 -0.05 0.11574 C -0.05538 0.12778 -0.0625 0.14121 -0.06997 0.15116 C -0.07257 0.16111 -0.07587 0.1588 -0.0783 0.16898 C -0.04201 0.19306 -0.02708 0.17477 0.03333 0.17338 C 0.05608 0.17107 0.06771 0.16945 0.09167 0.1713 C 0.09983 0.1757 0.10469 0.17986 0.11163 0.18681 C 0.10781 0.20348 0.0901 0.2007 0.08003 0.20672 C 0.02865 0.23727 -0.03976 0.23426 -0.0934 0.23565 C -0.10122 0.23912 -0.10885 0.24329 -0.11667 0.24676 C -0.11111 0.21135 -0.06806 0.20255 -0.04826 0.19352 C -0.03281 0.18635 -0.01597 0.18727 -2.77556E-017 0.18241 C 0.03264 0.17246 0.06337 0.16667 0.0967 0.16227 C 0.11615 0.15973 0.1309 0.15672 0.15 0.15116 C 0.15677 0.14931 0.16997 0.14445 0.16997 0.14445 C 0.16059 0.10672 0.17326 0.1544 0.16163 0.12014 C 0.15816 0.10973 0.15642 0.10093 0.15174 0.09121 C 0.15052 0.08449 0.15 0.07778 0.14826 0.0713 C 0.14722 0.06736 0.14531 0.06366 0.1434 0.06019 C 0.14253 0.05834 0.13993 0.05556 0.13993 0.05556 L 0.13507 0.01783 L 0.13003 -0.0243 L 0.00503 0.02454 E">
                                      <p:cBhvr>
                                        <p:cTn id="88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Joka toinen meistä kärsii jossain elämänsä vaiheessa allergian aiheuttamista oireista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Kun ihmisen elimistöön pääsee vieraita aineita, kuten viruksia, bakteereja tai myrkyllisiä aineita, se puolustautuu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Allergisen ihmisen immuunijärjestelmä toimii epätarkoituksenmukaisesti ja elimistö puolustautuu sinänsä harmittomia aineita, kuten siitepölyä tai ruoka-aineita vastaan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Allergiaa aiheuttavat mm.siitepöly ja eläinten hilse ja jätteet. Myös eri ruuat voivat aiheuttaa allergisia reaktioit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Allergia on yleistymässä, koska ympärillämme on ärsykkeitä aiheuttavia kemikaaleja yhä enemmä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Otsikko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6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6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6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6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6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6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6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6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4:40:21Z</dcterms:created>
  <dc:creator>Ritva Tamminen</dc:creator>
  <dc:description/>
  <dc:language>en-US</dc:language>
  <cp:lastModifiedBy>Ritva Tamminen</cp:lastModifiedBy>
  <dcterms:modified xsi:type="dcterms:W3CDTF">2010-02-07T15:29:43Z</dcterms:modified>
  <cp:revision>4</cp:revision>
  <dc:subject/>
  <dc:title>Kansantaudit</dc:title>
</cp:coreProperties>
</file>